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6E7-549F-4497-83BE-37C73956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3A8-6B39-4F15-8C4C-C93B0406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1AF-9527-460E-895E-9771B136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981A-CA6F-4B43-8308-354798AA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719-9CE1-4106-ADC8-4D07FA7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C5C-3781-4FDA-BCCB-12475964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8C0-3A59-4C65-8D57-A9996E58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AFA-7B2A-4E29-8929-CB13BCA5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956-CB97-4849-9AB2-FAF5CA85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134-C3D6-4E65-BDE1-CD1B4E2E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118-8929-4BEA-A7AB-AF28D37A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9AF-67B6-46CC-8D19-D7BA41B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1EB7-8C19-46A1-9583-D84131B2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di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whi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a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wa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ha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ee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tea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cat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lunc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whistl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was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teeth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inatown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ist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44756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march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teac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thum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. sunsh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1920" y="151920"/>
            <a:ext cx="4343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chick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streng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fres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191120" y="151920"/>
            <a:ext cx="495288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2. cartwheel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cheerf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childr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plas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 Cobb</cp:lastModifiedBy>
  <cp:lastPrinted>2008-12-05T12:03:03Z</cp:lastPrinted>
  <dcterms:modified xsi:type="dcterms:W3CDTF">2008-12-05T12:03:38Z</dcterms:modified>
  <cp:revision>5</cp:revision>
  <dc:subject/>
  <dc:title>The Art Lesson Group A</dc:title>
</cp:coreProperties>
</file>